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7CC3-EF2A-4764-8998-162040C448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BA2-25F1-48A3-903E-E66081A7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192-7436-4EC6-A492-4B7C0328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F59-79F1-4B73-80FB-06061AA9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76E-C514-4138-9D05-54E9D9E8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FA5-8FB0-4880-8EF3-77B99172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C68-99D3-4E19-8398-9CB8EC5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B07-4A0D-4568-8039-9AA7F1D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9AF-09A8-495E-B1B0-11890BB5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83A-EDDD-43FE-A120-B61A24C3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9AE-52F8-4FE1-BC63-A2C145C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F7D-A84D-4E4C-8339-96FF5305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347-9D1A-4FAA-BACD-2C7911ED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FFB-B4F9-47B2-AB1E-633936E2B036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71680" y="228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47640" y="204300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609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rowth and Decay are largely used in: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2895480" y="1457280"/>
            <a:ext cx="335304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80880" y="3809880"/>
            <a:ext cx="35053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atural Scienc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29200" y="3886200"/>
            <a:ext cx="36576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cial Sci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91440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rowth can be modeled by the function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129528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4648320" y="1447920"/>
                <a:ext cx="425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 Box 8"/>
          <p:cNvSpPr/>
          <p:nvPr/>
        </p:nvSpPr>
        <p:spPr>
          <a:xfrm>
            <a:off x="457200" y="380988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le Decay can be modeled by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572000" y="388620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4648320" y="4038480"/>
                <a:ext cx="42526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914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(t) represents the amount at a certain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19320"/>
            <a:ext cx="4343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is the initial amoun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3809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 = rat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3809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 =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21:52Z</dcterms:created>
  <dc:creator>Chester Area School</dc:creator>
  <dc:description/>
  <dc:language>en-US</dc:language>
  <cp:lastModifiedBy>RomaK</cp:lastModifiedBy>
  <dcterms:modified xsi:type="dcterms:W3CDTF">2015-09-04T07:41:59Z</dcterms:modified>
  <cp:revision>15</cp:revision>
  <dc:subject/>
  <dc:title>PowerPoint Presentation</dc:title>
</cp:coreProperties>
</file>